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311F0-852D-453D-BE78-9BEC1759F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professor says that I can use a few websites, as long as they are reliable. Here are some of the important questions to as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found an article in Wikipedia about MySpace and it looks okay. But, does it say who is the author or where they found the inform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, it has a reference list, but none of the sources are very scholarly! This might be an okay starting point but it’s not enough for my research pap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when I search google, I can reduce the number of hits by using additional terms, such as “friends.” I can locate better, more scholarly articles using Google Scholar. Now, I can quickly find some good, authoritative sou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5B7E-3169-4BBD-9693-A78665F16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B465-069D-4389-9BB4-542EC9FA4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5F0B-E76C-4DB2-831B-BB7ECA3BC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0FFF-C60A-44E4-AF36-0C3548160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3EE7-9DDC-4029-8012-F625F4C9B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4A73-78E9-42BF-B592-78410B364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DE3A-9CDD-484E-8526-F25A398A0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C27C-3816-4DF1-9601-E47A188FF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4BBC-8C20-402B-B26B-86DEB75BA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0F66-B36E-485C-BDA0-15168C579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D883-A5CF-472A-B7A0-78A7A1C7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FA95-6E26-40FA-9367-1AF028DB6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C786B-B04C-4886-9269-54E4D37D76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 to the WW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as vs. obje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ev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95320" y="18288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is the auth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site updated on a regular bas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the site try to persuade yo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site useful for your researc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you tell where the author found the inform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kip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ogle, ag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ture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00:29:53Z</dcterms:created>
  <dc:creator>lknight</dc:creator>
  <dc:description/>
  <dc:language>en-US</dc:language>
  <cp:lastModifiedBy>lknight</cp:lastModifiedBy>
  <dcterms:modified xsi:type="dcterms:W3CDTF">2006-12-14T00:08:59Z</dcterms:modified>
  <cp:revision>4</cp:revision>
  <dc:subject/>
  <dc:title>Back to the WWW</dc:title>
</cp:coreProperties>
</file>